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DAA0-6847-43B4-8B98-E65FE7B36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2CE-71EB-422F-BF77-421D6595A29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9DB-32C7-4F3B-999C-2C6CF2A1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009-C872-4554-8BDA-B524D70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BEC-7CB9-4C61-B545-633EA0B9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509-3A1A-4606-B93D-B53AB8F4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0569-80F1-4DDD-AF44-5E9D1AB6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B196-0F49-401A-A080-FB94B08B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DC29-B83B-4B09-B72C-C70F539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989A-A004-4091-A150-67CFBDA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BD51-BF33-4A6F-8631-9D43AD58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1AE8-D462-49DA-9F4B-AAE27647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CBD0-03F3-4D0F-93D6-132B9125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B704-E516-4A7D-81F7-F8122DA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6116-5D4E-40B8-BC51-20678E4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8FDD-88D7-4661-A328-C662BF41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294A-8A2F-4CD2-9EB7-7B470CBF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D1A8-59F5-41F3-B186-E2AC8E1E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ECC5-7104-4A86-8343-B9BDCECB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4A4B-8C25-4B1A-BABF-4780BBF5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A2CE-35F3-465F-B185-66057653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27D9-504D-4743-89DD-241A87EE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DEAC-CE09-472B-8F6B-CADDEF6E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7CFF-0407-45AF-8C15-19B96F8D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42D-940B-4D01-AF33-C394DDA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C320-4510-4165-A967-99F89E08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CCFDF-08DC-46A7-8457-AC8FCA8A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A9D7-936A-4A1D-AFF1-55A5554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CA11-0C34-41EB-8106-95C6228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733B-2049-4BE5-8619-CBACCE8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603B-9C11-4EF2-9683-769ACD1A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1595-FC07-40F6-97D4-0160E2CE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8499-2FA1-4AA8-945D-D5D27403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8D75-C005-493C-A6A6-58983278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927E-1001-4F7C-B033-F4A3400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42B-5E57-4B54-823C-0BA7C69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6DFB-4EB7-4D5F-9D02-715B6E9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29CF3-E6A6-4A7E-B968-82A96221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542A6-F6AE-4CC6-89B5-7F2B1CD5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6232B-3AD7-4458-8FCC-22592F45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C4E36-4DBA-4B1E-AB5F-59F590F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E851-98F9-42F8-BD53-18A0C7B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4C7C-D380-4BA6-9B9D-56FE748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FBF8-BB19-4948-A760-E63B0506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3D87-8AD4-425C-A99A-3215C2E0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4D98A-026F-40E1-9EC2-E2C128C8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E50-B1C2-4E0D-B730-E3285450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E1B23-D290-42EE-B52E-398B735D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A861-9BEE-4AF4-94D6-EAE1C07E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0A09C-ABAC-42A2-8663-49E68B0B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304D3-93D3-4DAE-8DFB-BF9B58E0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24D0B-8A3F-4C8D-BF08-17A8456C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746E-13E5-4A3E-8134-86EE522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E0258-7DC5-4BC7-B884-E2993D3A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D706-3B55-4F5C-A4CF-28A261D8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A022-94BB-45E2-BC12-7A7F87CA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DC5D-A269-46D9-BFBD-27E79C27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7FD-EF21-48C2-825A-5595986E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E379-6AD9-4111-87ED-A2C83516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7E61A-66E2-48FD-83FB-87CCC7C4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17A2E-F40E-4A7F-93E2-349FDE12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4F8BC-32F0-4812-A25D-8F28127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6E7CB-6969-4FA7-B8A5-DC6B2C5D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4DC9F-7198-4C75-A596-9D625070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425B2-64DF-4439-924F-3ACC2C2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570F2-2584-47F7-8F1E-8544638B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D1700-2015-40B9-85FD-00C9E00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29650-6208-418F-981A-ECD960CE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5A4-DF8A-4E1B-B293-E5650D4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BF27F-2E1D-4ECF-937F-EAD511EE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42962-34CF-4A0D-A96C-4A84DB98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1A75B-7811-4710-8D30-D20189A2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0DC2C-B8CC-4749-995A-3FB2663E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A7E7C-907A-494B-86C9-1F9F1E0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42820-8811-4530-B3B1-86EE3979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B2171-F8E1-4404-A6FF-3762B1D0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4E74C-0BDB-424D-A666-B8354B09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26973-9BE9-42D9-B2EE-02B8117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6479A-A550-4C21-8C5C-69BC66B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5F5-91E5-4116-AFD1-3BFB2AE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B47BE-5B5E-4875-9B59-44EF0D6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A1B1B-8D40-4601-91A2-8DFE602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B0A61-07DB-4659-B2D6-2D135C20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30529-CF20-4EB7-814D-4090E572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20E3-CE04-4266-A010-55D93587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420-7AFC-4648-BF06-4F033CEC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45A-52A3-44C1-9EA3-EFE084568BE6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F151-7D9E-43F1-BB9B-9A81951E6B2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74680"/>
            <a:ext cx="8594640" cy="1334880"/>
            <a:chOff x="274680" y="274680"/>
            <a:chExt cx="8594640" cy="13348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74680"/>
              <a:ext cx="859464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77920"/>
              <a:ext cx="859464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1280" y="2938320"/>
            <a:ext cx="7156440" cy="2468880"/>
            <a:chOff x="341280" y="2938320"/>
            <a:chExt cx="7156440" cy="246888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6440" cy="24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5960" y="2943360"/>
              <a:ext cx="714708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094B-A03A-4930-88FA-73830BAFB8FB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015-8643-4697-B851-0FE1D3CEA3C0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77D-EEEF-4690-8016-D1C4930FE888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DEC7-3504-4427-A576-0B4F3BC4F01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259A-F5E2-4A91-BEA1-544C38673264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C15F-6569-4A9F-878B-CA04A385CC4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54040" y="1504800"/>
            <a:ext cx="2725560" cy="3524400"/>
            <a:chOff x="554040" y="1504800"/>
            <a:chExt cx="272556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54040" y="1504800"/>
              <a:ext cx="272556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B166-4BBE-417B-8BF7-2CFE10406E22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99F8-AD0E-4A09-9FCC-5F02E925651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2560" y="4950000"/>
            <a:ext cx="7778880" cy="1377720"/>
            <a:chOff x="682560" y="4950000"/>
            <a:chExt cx="7778880" cy="137772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7888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5800" y="4952880"/>
              <a:ext cx="77724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00C1-667E-4074-BB32-B2026DB85733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89BA-46D6-47B9-AA1C-BC59FB06EFA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EE4-FE06-415C-95C5-1AA7972ACF1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4A7C-3E9A-4CB8-A660-12E8DB8B660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trokids.com/MetroKids/November-2012/Bullies-parents-can-be-sued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emlindog.com/category/random-ridiculous/" TargetMode="External"/><Relationship Id="rId2" Type="http://schemas.openxmlformats.org/officeDocument/2006/relationships/hyperlink" Target="http://gremlindog.com/category/random-ridiculous/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quebec.huffingtonpost.ca/senator-mobina-jaffer/similarites-cyberintimidation-intimidation-en-personne_b_3660533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7gJPpy1XX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opbullying.gov/at-risk/effects/" TargetMode="External"/><Relationship Id="rId2" Type="http://schemas.openxmlformats.org/officeDocument/2006/relationships/hyperlink" Target="http://www.bullyingstatistics.org/content/why-do-people-bully.html" TargetMode="External"/><Relationship Id="rId3" Type="http://schemas.openxmlformats.org/officeDocument/2006/relationships/hyperlink" Target="http://www.dosomething.org/tipsandtools/11-facts-about-cyber-bullying" TargetMode="External"/><Relationship Id="rId4" Type="http://schemas.openxmlformats.org/officeDocument/2006/relationships/hyperlink" Target="http://www.bullyingstatistics.org/content/cyber-bullying-statistics.html" TargetMode="External"/><Relationship Id="rId5" Type="http://schemas.openxmlformats.org/officeDocument/2006/relationships/hyperlink" Target="http://www.larousse.fr/dictionnaires/francais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icturesof.net/pages/100604-002117-620053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desinc.org/2012/06/18/let-g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utterstock.com/pic-102244813/stock-photo-crowd-of-sports-spectators-seamless-repeats-horizontally-and-can-be-stacked-vertically-to-make-a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anradin.blogspot.com/2013/04/show-me-evidence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odahead.com/living/if-either-your-parents-threaten-to-hurt-you-physically-would-you-believe-them-do-you-think-they-lov/question-755459/?link=ibaf&amp;q=&amp;esrc=s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ctherat.wordpress.com/2012/10/13/bullying-a-lifetime-calling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ngryforgodsword.blogspot.com/2012/03/looking-at-each-other-for-lifetime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mreen gill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7534c"/>
                </a:solidFill>
                <a:latin typeface="Book Antiqua"/>
              </a:rPr>
              <a:t>La Cyberintimidation 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354400" y="0"/>
            <a:ext cx="4333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’intensifier: devenir plus inten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metrokids.com/MetroKids/November-2012/Bullies-parents-can-be-sued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3238560" y="2573280"/>
            <a:ext cx="26463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Railler: tourner en dérision, ridiculiser quelqu’un ou quelque chose par des moqueries, des plaisanteries plus ou moins viv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</a:t>
            </a:r>
            <a:r>
              <a:rPr b="0" lang="fr-FR" sz="2000" spc="-1" strike="noStrike" u="sng">
                <a:solidFill>
                  <a:srgbClr val="cccc00"/>
                </a:solidFill>
                <a:uFillTx/>
                <a:latin typeface="Century Gothic"/>
                <a:hlinkClick r:id="rId2"/>
              </a:rPr>
              <a:t>://gremlindog.com/category/random-ridiculous/</a:t>
            </a: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3137040" y="2900520"/>
            <a:ext cx="2857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n France et en états-uni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es élevés en général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e suicider statiqu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En Québe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articl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8046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quebec.huffingtonpost.ca/senator-mobina-jaffer/similarites-cyberintimidation-intimidation-en-personne_b_3660533.html</a:t>
            </a:r>
            <a:r>
              <a:rPr b="0" lang="fr-CA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Selon cette article, pourquoi les gens intimident en réalité?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Quel est PREVNET? Quel est l’objectif de PREVNET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Doit-on intervenir avec une grande groupe ou avec les individus? Pourquoi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caus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ultur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ocia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de famil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personn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lutte de puiss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eff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dépression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anxié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ensées suicidair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roblèmes de san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diminution dans la sucés académiqu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a vidéo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youtube.com/watch?v=17gJPpy1XX0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’opinion de ces gens au sujet de comment la police ont besoin d’intervenir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e projet ‘Ultimatum?’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’opinion de ces jeunes au sujet de la cyberintimdation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28760" y="250920"/>
          <a:ext cx="8264520" cy="6367320"/>
        </p:xfrm>
        <a:graphic>
          <a:graphicData uri="http://schemas.openxmlformats.org/drawingml/2006/table">
            <a:tbl>
              <a:tblPr/>
              <a:tblGrid>
                <a:gridCol w="2754000"/>
                <a:gridCol w="2756160"/>
                <a:gridCol w="275436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du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atiq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ersp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93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épreu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réference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topbullying.gov/at-risk/effects/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2"/>
              </a:rPr>
              <a:t>http://www.bullyingstatistics.org/content/why-do-people-bully.html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3"/>
              </a:rPr>
              <a:t>http://www.dosomething.org/tipsandtools/11-facts-about-cyber-bully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4"/>
              </a:rPr>
              <a:t>http://www.bullyingstatistics.org/content/cyber-bullying-statistics.htm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5"/>
              </a:rPr>
              <a:t>http://www.larousse.fr/dictionnaires/francais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files.efc-canada.net/si/Education/By_the_Numbers_Bullying_Report_April_2012.pdf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Les questions pre-présentation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 savez-vou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 sont les cause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s sont les similarités entre la cyberintimidation et l’intimidation en réalité? Différences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ervenir: se mêler d’une action, d’une situation en cours en vue d’influer sur le cours des événement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picturesof.net/pages/100604-002117-620053.html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3048120" y="3220920"/>
            <a:ext cx="304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imider: inspirer à quelqu’un une crainte, un trouble qui lui font perdre son assur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tidesinc.org/2012/06/18/let-go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2876400" y="2581200"/>
            <a:ext cx="29545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n: personne qui a vu ou entendu quelque chose, et qui peut éventuellement le certifier, le rapporter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hutterstock.com/pic-102244813/stock-photo-crowd-of-sports-spectators-seamless-repeats-horizontally-and-can-be-stacked-vertically-to-make-a.html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3098880" y="2768760"/>
            <a:ext cx="2946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gnage: déclaration, déposition d’un témoin en justi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deanradin.blogspot.com/2013/04/show-me-evidence.html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3301920" y="28558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Menacer: chercher à intimider quelqu’un en lui faisant craindre quelque chose, en usant de menac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odahead.com/living/if-either-your-parents-threaten-to-hurt-you-physically-would-you-believe-them-do-you-think-they-lov/question-755459/?link=ibaf&amp;q=&amp;esrc=s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814480" y="2803680"/>
            <a:ext cx="31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Harcèle: soumettre quelqu’un, un groupe à d’incessantes petites attaqu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jactherat.wordpress.com/2012/10/13/bullying-a-lifetime-calling/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819520" y="279720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ontrefaçon: action d’imiter frauduleusement un objet ayant un caractère publi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hungryforgodsword.blogspot.com/2012/03/looking-at-each-other-for-lifetime.html</a:t>
            </a:r>
            <a:r>
              <a:rPr b="0" lang="fr-FR" sz="1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301920" y="2913120"/>
            <a:ext cx="2527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5:04:46Z</dcterms:created>
  <dc:creator>Amreen Gill</dc:creator>
  <dc:description/>
  <dc:language>en-US</dc:language>
  <cp:lastModifiedBy>Amreen Gill</cp:lastModifiedBy>
  <dcterms:modified xsi:type="dcterms:W3CDTF">2013-10-09T05:49:48Z</dcterms:modified>
  <cp:revision>27</cp:revision>
  <dc:subject/>
  <dc:title>Cyber Intimidation </dc:title>
</cp:coreProperties>
</file>